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32B-4087-4E6D-BBE2-24E41D5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F47-B34E-43CD-8C6F-6C58D7A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1186-A677-456C-8572-EC87F975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98C2-63E7-44C0-9537-3FB3B21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A1AEF-0FB7-4E3C-9E66-FFBEFB89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05387-0858-42EB-872F-10E0843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027D-B03B-4B1B-9CAA-D5266CE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2A2EA-7942-41C0-92D7-7E27A7F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88C37-5568-4339-8209-EB3C6E9C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01877-5AB5-425C-84CC-D7FAE36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D9C3-D840-4B6B-B74F-7B51371E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62C6-39F3-44AE-8DB4-3EC6D75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313-D262-4E8B-9844-B6B8C598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3CD4E-69F3-432F-BBF0-5FF242A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CFE83-86F9-40F8-882C-FA36A06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2C8F6-DACE-4035-BF9A-9FE21DC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5051-9805-4DB4-A5CB-537F85C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6329-CC4D-40CA-A08E-C93562A1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743B3-2843-472C-8A54-AAFD259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DC30-8226-4EE5-8D28-698B859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B777C-E72E-4AD3-97C7-4EAF208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9F635-7F19-4328-9BDD-F619941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6BC3B-F3B7-456F-B890-0FEBAB74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79C-379D-4B2E-BED4-2492EC48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17316-0CB8-4D14-A64C-349A3FF6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0202E-AC5B-4CDC-83EC-3E14C578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B5FD-18B2-4F8E-8028-EF41E10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2D864-4DD2-4F5E-BF43-57507ED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F1A7-92FA-455B-844F-CCB381B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9A2B-EE7C-4454-BC94-C30306F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B0022-3547-426E-B01C-E3F6291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B7902-3500-4859-8C34-FE99609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8DD9-93BD-4273-94E1-EEB73FA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1224D-3A23-489D-9A89-18695C2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B04-C8D3-469D-98DF-3ADED10F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493A2-CC12-4EBD-989A-9C1D5C6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08BF-CECA-4CE3-B247-CEDFA733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3B45-ADC8-4F19-A76A-2AC0E7C5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771C0-1562-48D6-8DF3-1F3342DC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7A929-762A-4ACB-AE1C-2BC1A653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102B1-7826-4100-A2D7-88185C19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BF80F-66D7-4639-A61E-132A8AC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77B0A-3F59-487D-A47B-67A2397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50663-0A04-42C7-A5B7-7DFA235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2F75F-19AB-4741-B220-574355A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7757-0059-4272-B115-3DE86FC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2C41-F38C-4E8D-A69E-350C783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59DE3-5D0B-49C5-B605-37111C1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9313E-EBD6-4BAA-AAE5-8929D9A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EE17F-343A-45EB-B4E5-E66D447D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DDAFB-EB57-4B07-B5F2-EAE03E0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01B-F451-46FA-85AE-CD269F8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8132-BCB2-4111-9675-EAC0D9C4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E5D2-0C2C-4E52-97B7-A4AEF4F4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21B-2A65-4962-8D54-5299747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010-8BD2-4BED-8191-6045797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80-78DD-4B99-A9E4-E4CBD8F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401-95DE-4307-8537-E30BC40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48E3-6767-4306-8B95-F55DD70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E818-5846-45C4-BD88-86BFA49C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D939-A03C-425F-85CC-CC54D377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5A8-25DF-4002-86C8-0071DF5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8457-6564-4787-B58D-62208A8B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1969-FF61-4911-887A-2787616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01C6-1E78-4DE5-B77C-C4CFB9B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73FF-D943-4484-B589-12A30798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A4A2-FD0A-418F-8A5C-219C3F0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724-8105-4723-954F-BCB1E9C2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00D6-8D50-4BD1-8268-7699C8A8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D963-32F1-4B9F-B8CF-68785F96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BF3E-4900-4D61-A5E5-7916620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9709-C243-49AE-A401-56D070B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150D-F450-4720-8F75-636F4C2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10C2-1CB9-4691-8D8F-0FBD6ACA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807D-734E-477D-9921-31CB81AB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7654-ECBF-4BE8-9DAD-73B2EB19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A785-1200-42B3-A23E-474359EE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4DF2-56D2-464E-9199-4AA8BEB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8A0-2F4F-4000-ABB1-0A741290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12F6-0B27-4A84-9F4F-6D29094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42A6-B504-4506-A766-C9374DF2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66CF-8296-430E-930E-825653D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C7D5-5BBC-434F-A6FB-ECC32EB8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A117-F691-44C0-B762-16CE908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740C-E548-4B05-977D-6C047ED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00D5-8734-4FEC-A4D4-FD6E077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D34A-20EA-403C-A6DE-4443257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208B-8879-4A1F-975A-067CAF8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13D0-7696-4E34-990A-81E68B7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4D1-F9FB-4076-8719-9364E507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54E1-7275-4EC1-AC8F-F7A4D10D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EBFF-3B19-4A26-9C35-1322143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1DC3-E89F-4B8D-B442-1D6FDBB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998A-1A85-460F-8AEB-42DD26E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009F-07D7-4FF3-A73F-67C1BA6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2DC6-3BBB-4BAE-A9AE-E66558D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7C50-B86C-43ED-B367-0979BA3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58B1-D0B6-492E-8AAF-C3E25D0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D396-DAA6-45A0-B23A-C8250BE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2703-5283-4DA1-8C7D-69F2035A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798-25F9-42E0-843D-D13389E6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A832-4E62-4DE0-B997-3D721FF7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88A7-18AC-4CEC-871D-B71B7FE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A651-F69D-48A0-ACE5-B33846C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85C6-9BD4-4E0E-B86A-BB26A45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AA68-C9F5-4222-B13E-BCBAE6F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FF7D-9CB6-46E5-BD31-BFD46C9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C5D5-47C8-4E84-98D2-427E12AA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C23F-97D4-495E-A5BD-8882893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F3A28-5D4D-4317-B54D-C7F6A38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276A-333E-48EF-8E95-0191E31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339-9781-4D92-AB0A-421FF7D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CB2E-55AA-4719-8DC7-DFF947E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4810-7C8F-47C3-9EDD-1DE96E4B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C67D-49DA-47F5-89F2-5F583B5A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3B04-0061-4C27-A4DA-C3564CEB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C439-F063-46CD-A6BE-FC0053F0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0FBB-A021-4346-ACB8-F6C2A8FC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18E8A-595C-45A6-8340-83269DC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21C7-9E5E-4501-A57E-D8D9387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96F19-E86D-49B8-B9C1-9414DBA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6825A-9998-4E7F-8CB6-7C44320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F58-44A9-4A66-AFE4-7F7FA58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B207-781F-4AD4-B2FF-4249558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0C2D-8F5F-484D-AB2C-D3B55DB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1B8C-6C7B-4C9E-AEDC-D45BF697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9828-AD12-45E0-9CEF-6411430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1EFF-7668-43A1-B44C-63E10DE2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7062-8FF3-4331-9AD3-CC6338E6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CBA5-23F6-497F-9718-D7A39BD3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8543-5B1C-4908-BAEC-23FEA28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77E7-D6FF-408B-9926-EA751A3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D99D-C286-4424-B3B4-800E07C6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3F2-CED4-4074-97AA-F1E33E9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CD4B-C71B-4991-949A-78EFDAE2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8082-6B4D-4D97-B8DE-0F4D871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DD103-DD99-4E7D-BF6D-3B75372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95F0-E79E-4DC5-9774-ED35000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9ED8-60B3-451B-A978-1211EE84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9D87C-1DB1-450D-A447-ED320EEA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0193-0AAD-4BF8-9A43-9040625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6C40-CCD6-4E27-ADEA-3A3A793B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3CF71-8F70-4B6E-92FA-E345078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84D7E-6CB1-48E3-8159-955AD65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811F-762B-4A0F-B4FB-08149F161F9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BCB3-7C8A-4BA3-80BF-7207BBA3C1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EF0-B8D7-4CA7-ABD9-549026E46E3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2AA0-3A37-4FE3-940D-CA19D933781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5AAA-5FE0-49CF-B218-E7A5E1BBC6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98BC-1013-473E-8965-5CF6B1F55B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FBA-2AFB-4E2C-96C2-E0457EFA05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B3CD-9098-4878-B439-C2377338022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338-5980-41B4-9A26-71BCD810EC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4DC3-14CA-4BB9-A7E3-F4F21FA351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5E7-4E06-4268-BEF2-0F42E5EDD2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FD2B-D573-43B2-B595-896F2BB2B1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&#27604;&#23614;&#24052;&#29983;&#23383;.exe" TargetMode="External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19280" y="2504160"/>
            <a:ext cx="684036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今天，森林里的小动物们要举行一项特别的比赛，请我们每个小朋友做裁判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它们比什么呢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?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699680" y="2602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猴子"/>
          <p:cNvPicPr/>
          <p:nvPr/>
        </p:nvPicPr>
        <p:blipFill>
          <a:blip r:embed="rId1"/>
          <a:stretch/>
        </p:blipFill>
        <p:spPr>
          <a:xfrm>
            <a:off x="6453360" y="1197000"/>
            <a:ext cx="2690640" cy="3451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兔"/>
          <p:cNvPicPr/>
          <p:nvPr/>
        </p:nvPicPr>
        <p:blipFill>
          <a:blip r:embed="rId2"/>
          <a:srcRect l="8819" t="2635" r="5895" b="16222"/>
          <a:stretch/>
        </p:blipFill>
        <p:spPr>
          <a:xfrm>
            <a:off x="611280" y="2060640"/>
            <a:ext cx="3168720" cy="2185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兔子"/>
          <p:cNvPicPr/>
          <p:nvPr/>
        </p:nvPicPr>
        <p:blipFill>
          <a:blip r:embed="rId3"/>
          <a:stretch/>
        </p:blipFill>
        <p:spPr>
          <a:xfrm>
            <a:off x="4067280" y="1413000"/>
            <a:ext cx="2520720" cy="3052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2444040" y="554364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4353840" y="553716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7263000" y="552276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像一把伞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4303080" y="56844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连一连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 flipV="1">
            <a:off x="2627280" y="4076280"/>
            <a:ext cx="4249800" cy="15130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Line 13"/>
          <p:cNvSpPr/>
          <p:nvPr/>
        </p:nvSpPr>
        <p:spPr>
          <a:xfrm flipH="1" flipV="1">
            <a:off x="3203280" y="4365720"/>
            <a:ext cx="1368360" cy="12952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Line 14"/>
          <p:cNvSpPr/>
          <p:nvPr/>
        </p:nvSpPr>
        <p:spPr>
          <a:xfrm flipH="1" flipV="1">
            <a:off x="5579640" y="4221000"/>
            <a:ext cx="1513080" cy="144000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4542120" y="928800"/>
            <a:ext cx="4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读第三、四小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108960" y="3078000"/>
            <a:ext cx="2923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看第二轮比赛什么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2195640" y="2421000"/>
            <a:ext cx="5202000" cy="26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弯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扁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最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好看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鸭"/>
          <p:cNvPicPr/>
          <p:nvPr/>
        </p:nvPicPr>
        <p:blipFill>
          <a:blip r:embed="rId1"/>
          <a:stretch/>
        </p:blipFill>
        <p:spPr>
          <a:xfrm>
            <a:off x="539640" y="1844640"/>
            <a:ext cx="2735280" cy="2421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鸡"/>
          <p:cNvPicPr/>
          <p:nvPr/>
        </p:nvPicPr>
        <p:blipFill>
          <a:blip r:embed="rId2"/>
          <a:stretch/>
        </p:blipFill>
        <p:spPr>
          <a:xfrm>
            <a:off x="6478560" y="1916280"/>
            <a:ext cx="2665440" cy="2379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孔雀"/>
          <p:cNvPicPr/>
          <p:nvPr/>
        </p:nvPicPr>
        <p:blipFill>
          <a:blip r:embed="rId3"/>
          <a:srcRect l="0" t="3320" r="0" b="0"/>
          <a:stretch/>
        </p:blipFill>
        <p:spPr>
          <a:xfrm>
            <a:off x="3276720" y="1844640"/>
            <a:ext cx="3203280" cy="24354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2444040" y="553572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353840" y="553716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05080" y="55227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最好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4303080" y="56844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连一连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2771640" y="4292280"/>
            <a:ext cx="4608720" cy="12970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 flipH="1" flipV="1">
            <a:off x="2484000" y="4292280"/>
            <a:ext cx="2087640" cy="12970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 flipV="1">
            <a:off x="5292720" y="4221000"/>
            <a:ext cx="1727280" cy="136872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1258920" y="2060640"/>
            <a:ext cx="741672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说说课文中介绍的小动物的尾巴各有什么特点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476360" y="4365720"/>
            <a:ext cx="727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还知道其它动物尾巴的特点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7"/>
          <p:cNvGrpSpPr/>
          <p:nvPr/>
        </p:nvGrpSpPr>
        <p:grpSpPr>
          <a:xfrm>
            <a:off x="1042920" y="1557360"/>
            <a:ext cx="7738920" cy="2879640"/>
            <a:chOff x="1042920" y="1557360"/>
            <a:chExt cx="7738920" cy="2879640"/>
          </a:xfrm>
        </p:grpSpPr>
        <p:sp>
          <p:nvSpPr>
            <p:cNvPr id="573" name="Rectangle 6"/>
            <p:cNvSpPr/>
            <p:nvPr/>
          </p:nvSpPr>
          <p:spPr>
            <a:xfrm>
              <a:off x="1042920" y="1557360"/>
              <a:ext cx="770400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74" name="Picture 4" descr="霸王"/>
            <p:cNvPicPr/>
            <p:nvPr/>
          </p:nvPicPr>
          <p:blipFill>
            <a:blip r:embed="rId1"/>
            <a:srcRect l="0" t="11633" r="1842" b="9140"/>
            <a:stretch/>
          </p:blipFill>
          <p:spPr>
            <a:xfrm>
              <a:off x="1042920" y="1557360"/>
              <a:ext cx="597672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5" descr="mouse1"/>
            <p:cNvPicPr/>
            <p:nvPr/>
          </p:nvPicPr>
          <p:blipFill>
            <a:blip r:embed="rId2">
              <a:lum contrast="42000"/>
            </a:blip>
            <a:srcRect l="1782" t="3681" r="2819" b="12736"/>
            <a:stretch/>
          </p:blipFill>
          <p:spPr>
            <a:xfrm>
              <a:off x="6010200" y="3213360"/>
              <a:ext cx="2771640" cy="12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 Box 8"/>
          <p:cNvSpPr/>
          <p:nvPr/>
        </p:nvSpPr>
        <p:spPr>
          <a:xfrm>
            <a:off x="4044240" y="620640"/>
            <a:ext cx="1055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仿  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982800" y="5661000"/>
            <a:ext cx="84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的尾巴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/>
          </p:cNvPr>
          <p:cNvSpPr/>
          <p:nvPr/>
        </p:nvSpPr>
        <p:spPr>
          <a:xfrm>
            <a:off x="406728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4165560" y="5729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87229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4273560" y="620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917800" y="2924280"/>
            <a:ext cx="1224000" cy="1224000"/>
            <a:chOff x="2917800" y="2924280"/>
            <a:chExt cx="1224000" cy="1224000"/>
          </a:xfrm>
        </p:grpSpPr>
        <p:sp>
          <p:nvSpPr>
            <p:cNvPr id="583" name="Rectangle 6"/>
            <p:cNvSpPr/>
            <p:nvPr/>
          </p:nvSpPr>
          <p:spPr>
            <a:xfrm>
              <a:off x="2917800" y="2924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Line 7"/>
            <p:cNvSpPr/>
            <p:nvPr/>
          </p:nvSpPr>
          <p:spPr>
            <a:xfrm flipH="1">
              <a:off x="2917800" y="3536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8"/>
            <p:cNvSpPr/>
            <p:nvPr/>
          </p:nvSpPr>
          <p:spPr>
            <a:xfrm>
              <a:off x="3530160" y="2954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6" name="Group 9"/>
          <p:cNvGrpSpPr/>
          <p:nvPr/>
        </p:nvGrpSpPr>
        <p:grpSpPr>
          <a:xfrm>
            <a:off x="4141800" y="2924280"/>
            <a:ext cx="1224000" cy="1224000"/>
            <a:chOff x="4141800" y="2924280"/>
            <a:chExt cx="1224000" cy="1224000"/>
          </a:xfrm>
        </p:grpSpPr>
        <p:sp>
          <p:nvSpPr>
            <p:cNvPr id="587" name="Rectangle 10"/>
            <p:cNvSpPr/>
            <p:nvPr/>
          </p:nvSpPr>
          <p:spPr>
            <a:xfrm>
              <a:off x="4141800" y="2924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11"/>
            <p:cNvSpPr/>
            <p:nvPr/>
          </p:nvSpPr>
          <p:spPr>
            <a:xfrm flipH="1">
              <a:off x="4141800" y="3536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>
              <a:off x="4754160" y="2954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0" name="Group 13"/>
          <p:cNvGrpSpPr/>
          <p:nvPr/>
        </p:nvGrpSpPr>
        <p:grpSpPr>
          <a:xfrm>
            <a:off x="5365800" y="2924280"/>
            <a:ext cx="1224000" cy="1224000"/>
            <a:chOff x="5365800" y="2924280"/>
            <a:chExt cx="1224000" cy="1224000"/>
          </a:xfrm>
        </p:grpSpPr>
        <p:sp>
          <p:nvSpPr>
            <p:cNvPr id="591" name="Rectangle 14"/>
            <p:cNvSpPr/>
            <p:nvPr/>
          </p:nvSpPr>
          <p:spPr>
            <a:xfrm>
              <a:off x="5365800" y="2924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 flipH="1">
              <a:off x="5365800" y="3536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Line 16"/>
            <p:cNvSpPr/>
            <p:nvPr/>
          </p:nvSpPr>
          <p:spPr>
            <a:xfrm>
              <a:off x="5978160" y="2954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4" name="Text Box 21"/>
          <p:cNvSpPr/>
          <p:nvPr/>
        </p:nvSpPr>
        <p:spPr>
          <a:xfrm>
            <a:off x="2916360" y="28875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云公车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124000" y="764640"/>
            <a:ext cx="532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给下面的小动物加尾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7" name="Object 3" descr=""/>
          <p:cNvPicPr/>
          <p:nvPr/>
        </p:nvPicPr>
        <p:blipFill>
          <a:blip r:embed="rId1"/>
          <a:stretch/>
        </p:blipFill>
        <p:spPr>
          <a:xfrm>
            <a:off x="6516720" y="5221440"/>
            <a:ext cx="1089000" cy="121896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4" descr=""/>
          <p:cNvPicPr/>
          <p:nvPr/>
        </p:nvPicPr>
        <p:blipFill>
          <a:blip r:embed="rId2"/>
          <a:stretch/>
        </p:blipFill>
        <p:spPr>
          <a:xfrm>
            <a:off x="900000" y="2111400"/>
            <a:ext cx="1176480" cy="1676520"/>
          </a:xfrm>
          <a:prstGeom prst="rect">
            <a:avLst/>
          </a:prstGeom>
          <a:ln w="0">
            <a:noFill/>
          </a:ln>
        </p:spPr>
      </p:pic>
      <p:pic>
        <p:nvPicPr>
          <p:cNvPr id="599" name="Object 5" descr=""/>
          <p:cNvPicPr/>
          <p:nvPr/>
        </p:nvPicPr>
        <p:blipFill>
          <a:blip r:embed="rId3"/>
          <a:stretch/>
        </p:blipFill>
        <p:spPr>
          <a:xfrm>
            <a:off x="2556000" y="5373720"/>
            <a:ext cx="685800" cy="623880"/>
          </a:xfrm>
          <a:prstGeom prst="rect">
            <a:avLst/>
          </a:prstGeom>
          <a:ln w="0">
            <a:noFill/>
          </a:ln>
        </p:spPr>
      </p:pic>
      <p:pic>
        <p:nvPicPr>
          <p:cNvPr id="600" name="Object 6" descr=""/>
          <p:cNvPicPr/>
          <p:nvPr/>
        </p:nvPicPr>
        <p:blipFill>
          <a:blip r:embed="rId4"/>
          <a:stretch/>
        </p:blipFill>
        <p:spPr>
          <a:xfrm>
            <a:off x="7667640" y="2273400"/>
            <a:ext cx="1270080" cy="1371600"/>
          </a:xfrm>
          <a:prstGeom prst="rect">
            <a:avLst/>
          </a:prstGeom>
          <a:ln w="0">
            <a:noFill/>
          </a:ln>
        </p:spPr>
      </p:pic>
      <p:pic>
        <p:nvPicPr>
          <p:cNvPr id="601" name="Object 7" descr=""/>
          <p:cNvPicPr/>
          <p:nvPr/>
        </p:nvPicPr>
        <p:blipFill>
          <a:blip r:embed="rId5"/>
          <a:stretch/>
        </p:blipFill>
        <p:spPr>
          <a:xfrm>
            <a:off x="4788000" y="5149800"/>
            <a:ext cx="1199880" cy="12859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8" descr=""/>
          <p:cNvPicPr/>
          <p:nvPr/>
        </p:nvPicPr>
        <p:blipFill>
          <a:blip r:embed="rId6"/>
          <a:stretch/>
        </p:blipFill>
        <p:spPr>
          <a:xfrm>
            <a:off x="2338560" y="2103480"/>
            <a:ext cx="793440" cy="1828800"/>
          </a:xfrm>
          <a:prstGeom prst="rect">
            <a:avLst/>
          </a:prstGeom>
          <a:ln w="0">
            <a:noFill/>
          </a:ln>
        </p:spPr>
      </p:pic>
      <p:pic>
        <p:nvPicPr>
          <p:cNvPr id="603" name="Object 9" descr=""/>
          <p:cNvPicPr/>
          <p:nvPr/>
        </p:nvPicPr>
        <p:blipFill>
          <a:blip r:embed="rId7"/>
          <a:stretch/>
        </p:blipFill>
        <p:spPr>
          <a:xfrm>
            <a:off x="6156360" y="2174760"/>
            <a:ext cx="108900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Object 10" descr=""/>
          <p:cNvPicPr/>
          <p:nvPr/>
        </p:nvPicPr>
        <p:blipFill>
          <a:blip r:embed="rId8"/>
          <a:stretch/>
        </p:blipFill>
        <p:spPr>
          <a:xfrm>
            <a:off x="4654440" y="2060640"/>
            <a:ext cx="1212840" cy="167616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11" descr=""/>
          <p:cNvPicPr/>
          <p:nvPr/>
        </p:nvPicPr>
        <p:blipFill>
          <a:blip r:embed="rId9"/>
          <a:stretch/>
        </p:blipFill>
        <p:spPr>
          <a:xfrm>
            <a:off x="1547640" y="5300640"/>
            <a:ext cx="524160" cy="733320"/>
          </a:xfrm>
          <a:prstGeom prst="rect">
            <a:avLst/>
          </a:prstGeom>
          <a:ln w="0">
            <a:noFill/>
          </a:ln>
        </p:spPr>
      </p:pic>
      <p:pic>
        <p:nvPicPr>
          <p:cNvPr id="606" name="Object 12" descr=""/>
          <p:cNvPicPr/>
          <p:nvPr/>
        </p:nvPicPr>
        <p:blipFill>
          <a:blip r:embed="rId10"/>
          <a:stretch/>
        </p:blipFill>
        <p:spPr>
          <a:xfrm>
            <a:off x="3780000" y="5229360"/>
            <a:ext cx="68076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Object 13" descr=""/>
          <p:cNvPicPr/>
          <p:nvPr/>
        </p:nvPicPr>
        <p:blipFill>
          <a:blip r:embed="rId11"/>
          <a:stretch/>
        </p:blipFill>
        <p:spPr>
          <a:xfrm>
            <a:off x="7910640" y="5084640"/>
            <a:ext cx="1017360" cy="1447920"/>
          </a:xfrm>
          <a:prstGeom prst="rect">
            <a:avLst/>
          </a:prstGeom>
          <a:ln w="0">
            <a:noFill/>
          </a:ln>
        </p:spPr>
      </p:pic>
      <p:pic>
        <p:nvPicPr>
          <p:cNvPr id="608" name="Object 14" descr=""/>
          <p:cNvPicPr/>
          <p:nvPr/>
        </p:nvPicPr>
        <p:blipFill>
          <a:blip r:embed="rId12"/>
          <a:stretch/>
        </p:blipFill>
        <p:spPr>
          <a:xfrm>
            <a:off x="3492360" y="2246400"/>
            <a:ext cx="959040" cy="1469880"/>
          </a:xfrm>
          <a:prstGeom prst="rect">
            <a:avLst/>
          </a:prstGeom>
          <a:ln w="0">
            <a:noFill/>
          </a:ln>
        </p:spPr>
      </p:pic>
      <p:sp>
        <p:nvSpPr>
          <p:cNvPr id="609" name="Line 19"/>
          <p:cNvSpPr/>
          <p:nvPr/>
        </p:nvSpPr>
        <p:spPr>
          <a:xfrm>
            <a:off x="1835280" y="3789360"/>
            <a:ext cx="4968720" cy="15112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Line 20"/>
          <p:cNvSpPr/>
          <p:nvPr/>
        </p:nvSpPr>
        <p:spPr>
          <a:xfrm>
            <a:off x="2843280" y="3716280"/>
            <a:ext cx="2233440" cy="151308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Line 21"/>
          <p:cNvSpPr/>
          <p:nvPr/>
        </p:nvSpPr>
        <p:spPr>
          <a:xfrm flipH="1">
            <a:off x="2050560" y="3789360"/>
            <a:ext cx="2016360" cy="165564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Line 22"/>
          <p:cNvSpPr/>
          <p:nvPr/>
        </p:nvSpPr>
        <p:spPr>
          <a:xfrm flipH="1">
            <a:off x="4211280" y="3789360"/>
            <a:ext cx="1152360" cy="136836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Line 23"/>
          <p:cNvSpPr/>
          <p:nvPr/>
        </p:nvSpPr>
        <p:spPr>
          <a:xfrm>
            <a:off x="6659640" y="3716280"/>
            <a:ext cx="1512720" cy="144144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Line 24"/>
          <p:cNvSpPr/>
          <p:nvPr/>
        </p:nvSpPr>
        <p:spPr>
          <a:xfrm flipV="1">
            <a:off x="2916360" y="3645000"/>
            <a:ext cx="5256000" cy="1728720"/>
          </a:xfrm>
          <a:prstGeom prst="line">
            <a:avLst/>
          </a:prstGeom>
          <a:ln w="28440">
            <a:solidFill>
              <a:srgbClr val="065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袋鼠尾巴"/>
          <p:cNvPicPr/>
          <p:nvPr/>
        </p:nvPicPr>
        <p:blipFill>
          <a:blip r:embed="rId1"/>
          <a:stretch/>
        </p:blipFill>
        <p:spPr>
          <a:xfrm>
            <a:off x="1528920" y="519264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鳄鱼尾巴"/>
          <p:cNvPicPr/>
          <p:nvPr/>
        </p:nvPicPr>
        <p:blipFill>
          <a:blip r:embed="rId2"/>
          <a:stretch/>
        </p:blipFill>
        <p:spPr>
          <a:xfrm>
            <a:off x="3967200" y="5192640"/>
            <a:ext cx="1638360" cy="1257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黄牛尾巴"/>
          <p:cNvPicPr/>
          <p:nvPr/>
        </p:nvPicPr>
        <p:blipFill>
          <a:blip r:embed="rId3"/>
          <a:stretch/>
        </p:blipFill>
        <p:spPr>
          <a:xfrm>
            <a:off x="4110120" y="1916280"/>
            <a:ext cx="923760" cy="2705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马尾巴"/>
          <p:cNvPicPr/>
          <p:nvPr/>
        </p:nvPicPr>
        <p:blipFill>
          <a:blip r:embed="rId4"/>
          <a:stretch/>
        </p:blipFill>
        <p:spPr>
          <a:xfrm>
            <a:off x="1681200" y="1916280"/>
            <a:ext cx="1266840" cy="2647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鱼尾巴"/>
          <p:cNvPicPr/>
          <p:nvPr/>
        </p:nvPicPr>
        <p:blipFill>
          <a:blip r:embed="rId5"/>
          <a:stretch/>
        </p:blipFill>
        <p:spPr>
          <a:xfrm>
            <a:off x="6329520" y="1887480"/>
            <a:ext cx="1466640" cy="2695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响尾蛇尾巴"/>
          <p:cNvPicPr/>
          <p:nvPr/>
        </p:nvPicPr>
        <p:blipFill>
          <a:blip r:embed="rId6"/>
          <a:stretch/>
        </p:blipFill>
        <p:spPr>
          <a:xfrm>
            <a:off x="6253200" y="5192640"/>
            <a:ext cx="1695240" cy="127656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9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WordArt 17"/>
          <p:cNvSpPr txBox="1"/>
          <p:nvPr/>
        </p:nvSpPr>
        <p:spPr>
          <a:xfrm>
            <a:off x="3564000" y="858960"/>
            <a:ext cx="259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楷体_GB2312"/>
              </a:rPr>
              <a:t>我会猜</a:t>
            </a:r>
            <a:endParaRPr b="1" i="1" lang="en-US" sz="2400" spc="1" strike="noStrike" u="sng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袋鼠尾巴"/>
          <p:cNvPicPr/>
          <p:nvPr/>
        </p:nvPicPr>
        <p:blipFill>
          <a:blip r:embed="rId1"/>
          <a:stretch/>
        </p:blipFill>
        <p:spPr>
          <a:xfrm>
            <a:off x="1824120" y="474516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鳄鱼尾巴"/>
          <p:cNvPicPr/>
          <p:nvPr/>
        </p:nvPicPr>
        <p:blipFill>
          <a:blip r:embed="rId2"/>
          <a:stretch/>
        </p:blipFill>
        <p:spPr>
          <a:xfrm>
            <a:off x="4262400" y="4745160"/>
            <a:ext cx="1638360" cy="1257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黄牛尾巴"/>
          <p:cNvPicPr/>
          <p:nvPr/>
        </p:nvPicPr>
        <p:blipFill>
          <a:blip r:embed="rId3"/>
          <a:stretch/>
        </p:blipFill>
        <p:spPr>
          <a:xfrm>
            <a:off x="4572000" y="1197000"/>
            <a:ext cx="923760" cy="2705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马尾巴"/>
          <p:cNvPicPr/>
          <p:nvPr/>
        </p:nvPicPr>
        <p:blipFill>
          <a:blip r:embed="rId4"/>
          <a:stretch/>
        </p:blipFill>
        <p:spPr>
          <a:xfrm>
            <a:off x="1957320" y="1270080"/>
            <a:ext cx="1266840" cy="2647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鱼尾巴"/>
          <p:cNvPicPr/>
          <p:nvPr/>
        </p:nvPicPr>
        <p:blipFill>
          <a:blip r:embed="rId5"/>
          <a:stretch/>
        </p:blipFill>
        <p:spPr>
          <a:xfrm>
            <a:off x="6621480" y="1125360"/>
            <a:ext cx="1467000" cy="26956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响尾蛇尾巴"/>
          <p:cNvPicPr/>
          <p:nvPr/>
        </p:nvPicPr>
        <p:blipFill>
          <a:blip r:embed="rId6"/>
          <a:stretch/>
        </p:blipFill>
        <p:spPr>
          <a:xfrm>
            <a:off x="6548400" y="4745160"/>
            <a:ext cx="1695600" cy="12762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9"/>
          <p:cNvSpPr/>
          <p:nvPr/>
        </p:nvSpPr>
        <p:spPr>
          <a:xfrm>
            <a:off x="4756320" y="29764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2263320" y="397656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马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4784400" y="397656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7016400" y="393372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鱼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2297520" y="60930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袋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4674240" y="608976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鳄鱼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103880" y="609300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3529800" y="2276640"/>
            <a:ext cx="285552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7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2"/>
          <p:cNvSpPr/>
          <p:nvPr/>
        </p:nvSpPr>
        <p:spPr>
          <a:xfrm>
            <a:off x="0" y="2060640"/>
            <a:ext cx="4968720" cy="18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长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短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好像一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把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伞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0" y="4441680"/>
            <a:ext cx="5256360" cy="18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猴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子的尾巴长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兔子的尾巴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松鼠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的尾巴好像一把伞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4932360" y="2060640"/>
            <a:ext cx="3924360" cy="18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弯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扁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谁的尾巴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最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好看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4967280" y="4508640"/>
            <a:ext cx="4537080" cy="18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公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鸡的尾巴弯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鸭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子的尾巴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扁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孔雀的尾巴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最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好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比尾巴.wav" descr=""/>
          <p:cNvPicPr/>
          <p:nvPr/>
        </p:nvPicPr>
        <p:blipFill>
          <a:blip r:embed="rId2"/>
          <a:stretch/>
        </p:blipFill>
        <p:spPr>
          <a:xfrm>
            <a:off x="5940360" y="90792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516" name="WordArt 11"/>
          <p:cNvSpPr txBox="1"/>
          <p:nvPr/>
        </p:nvSpPr>
        <p:spPr>
          <a:xfrm>
            <a:off x="3780000" y="1052640"/>
            <a:ext cx="208908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uFillTx/>
                <a:latin typeface="楷体_GB2312"/>
              </a:rPr>
              <a:t>比尾巴</a:t>
            </a:r>
            <a:endParaRPr b="1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effectLst>
                <a:outerShdw dist="17819" dir="2700000" blurRad="0" rotWithShape="0">
                  <a:srgbClr val="ffffff"/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600"/>
                            </p:stCondLst>
                            <p:childTnLst>
                              <p:par>
                                <p:cTn id="4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5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1074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1692360" y="2421000"/>
            <a:ext cx="6983280" cy="46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b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ǐ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w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ě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i   b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a 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du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 b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 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hó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比   尾   巴   短   把   猴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s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ō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 sh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ǔ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bi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 zuì  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ō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   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松   鼠   扁   最   公   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WordArt 7"/>
          <p:cNvSpPr txBox="1"/>
          <p:nvPr/>
        </p:nvSpPr>
        <p:spPr>
          <a:xfrm>
            <a:off x="3564000" y="836640"/>
            <a:ext cx="27367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52300" dir="836435" blurRad="0" rotWithShape="0">
                    <a:srgbClr val="000099"/>
                  </a:outerShdw>
                </a:effectLst>
                <a:uFillTx/>
                <a:latin typeface="楷体_GB2312"/>
              </a:rPr>
              <a:t>会读的字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52300" dir="836435" blurRad="0" rotWithShape="0">
                  <a:srgbClr val="000099"/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547640" y="2997360"/>
            <a:ext cx="684072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说说课文讲了哪些小动物比尾巴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猴子"/>
          <p:cNvPicPr/>
          <p:nvPr/>
        </p:nvPicPr>
        <p:blipFill>
          <a:blip r:embed="rId1"/>
          <a:stretch/>
        </p:blipFill>
        <p:spPr>
          <a:xfrm>
            <a:off x="684360" y="1703520"/>
            <a:ext cx="2690640" cy="3450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兔"/>
          <p:cNvPicPr/>
          <p:nvPr/>
        </p:nvPicPr>
        <p:blipFill>
          <a:blip r:embed="rId2"/>
          <a:srcRect l="8819" t="2635" r="5895" b="16222"/>
          <a:stretch/>
        </p:blipFill>
        <p:spPr>
          <a:xfrm>
            <a:off x="3203640" y="2924280"/>
            <a:ext cx="3168720" cy="2185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兔子"/>
          <p:cNvPicPr/>
          <p:nvPr/>
        </p:nvPicPr>
        <p:blipFill>
          <a:blip r:embed="rId3"/>
          <a:stretch/>
        </p:blipFill>
        <p:spPr>
          <a:xfrm>
            <a:off x="6622920" y="1901880"/>
            <a:ext cx="2521080" cy="30528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1"/>
          <p:cNvSpPr/>
          <p:nvPr/>
        </p:nvSpPr>
        <p:spPr>
          <a:xfrm>
            <a:off x="1825560" y="54640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猴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227480" y="54640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兔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083360" y="5472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松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24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5" descr="鸭"/>
          <p:cNvPicPr/>
          <p:nvPr/>
        </p:nvPicPr>
        <p:blipFill>
          <a:blip r:embed="rId1"/>
          <a:stretch/>
        </p:blipFill>
        <p:spPr>
          <a:xfrm>
            <a:off x="3203640" y="1773360"/>
            <a:ext cx="2735280" cy="2420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鸡"/>
          <p:cNvPicPr/>
          <p:nvPr/>
        </p:nvPicPr>
        <p:blipFill>
          <a:blip r:embed="rId2"/>
          <a:stretch/>
        </p:blipFill>
        <p:spPr>
          <a:xfrm>
            <a:off x="539640" y="1798560"/>
            <a:ext cx="2665440" cy="23796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孔雀"/>
          <p:cNvPicPr/>
          <p:nvPr/>
        </p:nvPicPr>
        <p:blipFill>
          <a:blip r:embed="rId3"/>
          <a:srcRect l="0" t="3320" r="0" b="0"/>
          <a:stretch/>
        </p:blipFill>
        <p:spPr>
          <a:xfrm>
            <a:off x="5940360" y="1785960"/>
            <a:ext cx="3203640" cy="24350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21"/>
          <p:cNvSpPr/>
          <p:nvPr/>
        </p:nvSpPr>
        <p:spPr>
          <a:xfrm>
            <a:off x="1754280" y="46594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公鸡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22"/>
          <p:cNvSpPr/>
          <p:nvPr/>
        </p:nvSpPr>
        <p:spPr>
          <a:xfrm>
            <a:off x="4397400" y="4680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鸭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23"/>
          <p:cNvSpPr/>
          <p:nvPr/>
        </p:nvSpPr>
        <p:spPr>
          <a:xfrm>
            <a:off x="7278840" y="4680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孔雀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24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3591720" y="92880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读第一、二小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4226760" y="307800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看第一轮比赛什么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2050920" y="2344680"/>
            <a:ext cx="5616720" cy="21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长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短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谁的尾巴好像一把伞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比尾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万润仪器贸易公司</cp:lastModifiedBy>
  <dcterms:modified xsi:type="dcterms:W3CDTF">2020-08-24T01:55:38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